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FF4-D7FE-414D-A10E-EE573DAD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2D7-E44A-4171-B434-1944FE68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4A9-0A69-48D9-9357-184D5884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C16-C24C-479C-9765-073F2282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C086-A280-438D-9604-86F52B4D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7FC4-F8CE-46A8-B50B-45A179D3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DBE9-70F9-409E-BB23-26C88A3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00B1-E085-4F87-9136-EB052F6C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90D9-174B-4A1B-9B26-BFD54713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6DC1-BA98-4078-8C0B-1F84AFD0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F4F5-8716-4933-90A4-93EA0DAD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FBC-446C-4C70-8E53-64F969B5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B62B-70EA-4BE9-912D-AA659451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8FD3-F619-4745-850A-E3E5B237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7F9C-EF9A-43BA-82FF-CEDE5310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670F-BAD3-4192-95B7-731010A5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4C72-973D-4D16-B011-5EC6317C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C7E-F637-4A99-AE97-0A65F569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2C5-F730-49FE-82AC-3ECFF5A4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10D-8C57-40DE-A29F-2E0BA3E0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F6D-7071-4CAD-BE0F-16C244F0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B16-36EC-481C-AA82-7549BE8D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0C9-4E8C-4D40-8A85-50517657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443-790E-4A13-B44B-D92F6CFE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8D35-1B74-4BFD-BB3A-24E91F02292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BD0C-26A6-4A83-BB9A-DBDA9AF41796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onnie Campbell</cp:lastModifiedBy>
  <dcterms:modified xsi:type="dcterms:W3CDTF">2002-05-31T21:55:06Z</dcterms:modified>
  <cp:revision>3</cp:revision>
  <dc:subject/>
  <dc:title>Twenty Questions </dc:title>
</cp:coreProperties>
</file>